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2D10-BAE0-40F7-878D-CAB95D193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470B-89CA-4284-9E4C-D24EAABA3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CEBB-543B-4DE6-8F13-1CEB07EBD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9364-957E-4720-A938-4F779B14D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E884-7AD4-44AF-940F-FB7E03204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84EC-74B2-4056-B0AC-BB2BA4785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5CA4-D936-40D3-8349-3152754A1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E0BC-9114-44B3-B06C-71968BC14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DF87-F77F-4A30-BE7A-DC463AE39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564E-4CC1-4D1F-BFDE-B867D376B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A63A-7CBD-4224-A7AC-5A13B0EA4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81AD-D025-41EA-B3EA-59708A983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4F35C-6FCC-4F64-A465-B4FEC80B35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in%20título-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Sin%20título-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in%20título-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Sin%20título-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Sin%20título-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Sin%20título-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Sin%20título-1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Sin%20título-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in%20título-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in%20título-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Sin%20título-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in%20título-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Sin%20título-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in%20título-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in%20título-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Sin%20título-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5:27:01Z</dcterms:created>
  <dc:creator>Grupo Editorial</dc:creator>
  <dc:description/>
  <dc:language>en-US</dc:language>
  <cp:lastModifiedBy>Grupo Editorial</cp:lastModifiedBy>
  <dcterms:modified xsi:type="dcterms:W3CDTF">2001-11-20T15:30:31Z</dcterms:modified>
  <cp:revision>1</cp:revision>
  <dc:subject/>
  <dc:title>Sin título de diapositiva</dc:title>
</cp:coreProperties>
</file>